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5C6-F69E-42A4-8497-990A7A53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4C8-1FE5-44A1-B2E5-6CF8988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E43-89B5-4930-B2C2-7D91B41D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1BA-518F-42D9-AF4A-862D32B1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DA4D-F440-4BC6-BFEC-16EB6D54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94D2-D407-4C78-A743-5F00BD6A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9C87-4A7B-49BE-B5FB-718C976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A344-4844-4CEA-930C-57114D80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B90B-3AA1-47FA-BCDE-A3C0B832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560B-2273-454B-B038-8AAAE4B4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E630-68BC-4860-BD03-72A3726A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B85-48D7-4101-99DC-A8D52814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32E5-0060-4790-991C-C215C4D6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0ABF-488A-45B2-AF79-2050EEA4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CA88-2D85-4785-8B0F-C968B533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2D9-055A-4C97-8DA5-88300D71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AEC-5F06-4ADF-B7B6-BC1D51E6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662-F833-4950-9D27-1B210F89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E3A-AE7D-4CB2-8D06-E7CDC2A2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075F-9828-43CF-9F38-9CA9DAA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0D5-83B6-4CAB-832B-9489651F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8AA-CF4E-4A17-9CB9-BC033FA1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BF8-A011-459F-B868-2C88979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0A1-E4F1-4C6D-9D2A-5459C9D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6D8-50EF-456E-9081-561DAB5F0C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04EF-FB74-41BB-8808-C69DCA14C9D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dobe Caslon Pro Bold"/>
              </a:rPr>
              <a:t>Cancú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By Johnathan Stewar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Cancun Hotels"/>
          <p:cNvPicPr/>
          <p:nvPr/>
        </p:nvPicPr>
        <p:blipFill>
          <a:blip r:embed="rId1"/>
          <a:stretch/>
        </p:blipFill>
        <p:spPr>
          <a:xfrm>
            <a:off x="3352680" y="457200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lackoak Std"/>
              </a:rPr>
              <a:t>The sp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Long walks on the bea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Relaxing with the fami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rlemagne Std"/>
              </a:rPr>
              <a:t>Surfing with frie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Mexico, Tulum beach"/>
          <p:cNvPicPr/>
          <p:nvPr/>
        </p:nvPicPr>
        <p:blipFill>
          <a:blip r:embed="rId1"/>
          <a:stretch/>
        </p:blipFill>
        <p:spPr>
          <a:xfrm>
            <a:off x="7162920" y="3657600"/>
            <a:ext cx="1628640" cy="3200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ico's playa del carmen beach"/>
          <p:cNvPicPr/>
          <p:nvPr/>
        </p:nvPicPr>
        <p:blipFill>
          <a:blip r:embed="rId2"/>
          <a:stretch/>
        </p:blipFill>
        <p:spPr>
          <a:xfrm>
            <a:off x="7315200" y="838080"/>
            <a:ext cx="16286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inion Pro Cond"/>
              </a:rPr>
              <a:t>Lo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a tiny but perfectly-formed white sandy cove, with a few palm shade and the azure Caribbean sea to swim i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cation: 2.5 km at the beginning of the Hotel Z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place for swimming, relaxing and varied water sport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38480" y="2286000"/>
            <a:ext cx="4496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vit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Play volleyb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Sur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Ea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Sand figh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ajan Pro"/>
              </a:rPr>
              <a:t>Rela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Cancun Beach"/>
          <p:cNvPicPr/>
          <p:nvPr/>
        </p:nvPicPr>
        <p:blipFill>
          <a:blip r:embed="rId1"/>
          <a:stretch/>
        </p:blipFill>
        <p:spPr>
          <a:xfrm>
            <a:off x="4419720" y="1066680"/>
            <a:ext cx="4267080" cy="2895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Cancun Beach Turtles"/>
          <p:cNvPicPr/>
          <p:nvPr/>
        </p:nvPicPr>
        <p:blipFill>
          <a:blip r:embed="rId2"/>
          <a:stretch/>
        </p:blipFill>
        <p:spPr>
          <a:xfrm>
            <a:off x="4572000" y="4343400"/>
            <a:ext cx="373392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nny, nonsto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Paradise Beach"/>
          <p:cNvPicPr/>
          <p:nvPr/>
        </p:nvPicPr>
        <p:blipFill>
          <a:blip r:embed="rId1"/>
          <a:stretch/>
        </p:blipFill>
        <p:spPr>
          <a:xfrm>
            <a:off x="5638680" y="2133720"/>
            <a:ext cx="2371680" cy="1619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Cancun Beach Lifeguard"/>
          <p:cNvPicPr/>
          <p:nvPr/>
        </p:nvPicPr>
        <p:blipFill>
          <a:blip r:embed="rId2"/>
          <a:stretch/>
        </p:blipFill>
        <p:spPr>
          <a:xfrm>
            <a:off x="3581280" y="2362320"/>
            <a:ext cx="156240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7:07Z</dcterms:created>
  <dc:creator>762913</dc:creator>
  <dc:description/>
  <dc:language>en-US</dc:language>
  <cp:lastModifiedBy>762913</cp:lastModifiedBy>
  <dcterms:modified xsi:type="dcterms:W3CDTF">2009-01-23T16:53:20Z</dcterms:modified>
  <cp:revision>3</cp:revision>
  <dc:subject/>
  <dc:title>Mexico </dc:title>
</cp:coreProperties>
</file>